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902825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47880" y="693360"/>
            <a:ext cx="4962240" cy="343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37960" y="4597560"/>
            <a:ext cx="4591080" cy="4140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358920"/>
            <a:ext cx="31845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minar/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080" y="8648640"/>
            <a:ext cx="761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3293B11-8416-428A-9F44-0DA746C731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4249800"/>
            <a:ext cx="159876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38320" y="8601120"/>
            <a:ext cx="94284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47880" y="693720"/>
            <a:ext cx="4962240" cy="3436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137960" y="4597560"/>
            <a:ext cx="4591080" cy="4140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is is the block diagram a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7880" y="693720"/>
            <a:ext cx="4962240" cy="3436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37960" y="4597560"/>
            <a:ext cx="4591080" cy="4140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his is the block diagram a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5791-85D0-43E9-A999-A84A5374C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28D8-2FDB-4155-9B49-0AA5DC61B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6528-EF8D-451E-A780-00420EACB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C0F9-C30D-4746-82AB-262AFC818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AB8D-DA0E-4EDD-A573-CE45B57421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08B5-B53B-41B5-AEBF-ECD39EB0F5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C6A6-30C0-4FD3-BA7D-C0B8D29388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37C3A-4A21-46BA-820F-D8964895B2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1CF0B-D0CB-4227-BA06-F947B18A3D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3040" y="228564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47E1F-514A-442C-AAFD-6D9245F14B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CC33-5642-4FFD-97CE-2C4214EB38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233E-684A-4681-BFEA-1FFAE85BC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B879-22FB-4C72-8BB9-B93992D680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E59D-378C-48B2-B12B-1CD93C4854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2A686-D646-4366-8351-30DDAA29AD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4F90-EBC0-4B6C-9886-A6509469A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389A-2F3E-4CF0-AD6C-9C9CAC91C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E1B3-98B4-4251-826E-862109B53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B60B-0A39-4E64-9E26-78B716C52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BEBF-4C35-4507-BC8E-438985E4F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3040" y="228564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3D11-4EB7-4A37-878B-E231D47E8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C89D-1947-412C-A0D2-BD3476B8E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9F69-997F-4CC1-A842-DD520D180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7D16-421B-40F0-BC62-DBE14E82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244160"/>
            <a:ext cx="8912160" cy="452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901080" cy="0"/>
          </a:xfrm>
          <a:prstGeom prst="line">
            <a:avLst/>
          </a:prstGeom>
          <a:ln w="127080">
            <a:solidFill>
              <a:srgbClr val="000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21800" y="6153120"/>
            <a:ext cx="1488960" cy="29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98520" y="6428880"/>
            <a:ext cx="206352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9AD-FF6F-47F9-ACE1-BBD70754A8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6248520"/>
            <a:ext cx="31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2004 Altera Corporation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3040" y="2285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21800" y="6153120"/>
            <a:ext cx="1488960" cy="29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398520" y="6428880"/>
            <a:ext cx="2063520" cy="4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E0A-D57B-449C-980D-D4A48DB75B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920" y="6248520"/>
            <a:ext cx="3130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 2004 Altera Corporation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14400"/>
            <a:ext cx="9901080" cy="0"/>
          </a:xfrm>
          <a:prstGeom prst="line">
            <a:avLst/>
          </a:prstGeom>
          <a:ln w="127080">
            <a:solidFill>
              <a:srgbClr val="0000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gma Delta Modulator – Original Top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33720" y="1979640"/>
            <a:ext cx="0" cy="4024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4224960" y="2466000"/>
            <a:ext cx="809640" cy="71568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17600" y="2413080"/>
            <a:ext cx="1282680" cy="204840"/>
          </a:xfrm>
          <a:custGeom>
            <a:avLst/>
            <a:gdLst/>
            <a:ahLst/>
            <a:rect l="l" t="t" r="r" b="b"/>
            <a:pathLst>
              <a:path w="1263" h="203">
                <a:moveTo>
                  <a:pt x="0" y="203"/>
                </a:moveTo>
                <a:cubicBezTo>
                  <a:pt x="150" y="104"/>
                  <a:pt x="300" y="6"/>
                  <a:pt x="440" y="4"/>
                </a:cubicBezTo>
                <a:cubicBezTo>
                  <a:pt x="580" y="2"/>
                  <a:pt x="712" y="184"/>
                  <a:pt x="838" y="188"/>
                </a:cubicBezTo>
                <a:cubicBezTo>
                  <a:pt x="964" y="192"/>
                  <a:pt x="1135" y="62"/>
                  <a:pt x="1199" y="31"/>
                </a:cubicBezTo>
                <a:cubicBezTo>
                  <a:pt x="1263" y="0"/>
                  <a:pt x="1221" y="8"/>
                  <a:pt x="1225" y="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19560" y="24717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2400" y="27813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45880" y="2666880"/>
            <a:ext cx="221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1160" y="247320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03080" y="2976480"/>
            <a:ext cx="1762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7600" y="2976480"/>
            <a:ext cx="0" cy="1643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38880" y="2585880"/>
            <a:ext cx="790560" cy="89568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3280" y="3220920"/>
            <a:ext cx="190440" cy="88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53280" y="3317400"/>
            <a:ext cx="190440" cy="88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4600" y="26384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97520" y="2638440"/>
            <a:ext cx="41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84040" y="4332240"/>
            <a:ext cx="1677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98720" y="4208400"/>
            <a:ext cx="856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87120" y="4208400"/>
            <a:ext cx="111240" cy="25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688840" y="4332240"/>
            <a:ext cx="874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87600" y="4332240"/>
            <a:ext cx="20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28480" y="4619520"/>
            <a:ext cx="30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2080" y="4708440"/>
            <a:ext cx="297000" cy="42840"/>
          </a:xfrm>
          <a:custGeom>
            <a:avLst/>
            <a:gdLst/>
            <a:ahLst/>
            <a:rect l="l" t="t" r="r" b="b"/>
            <a:pathLst>
              <a:path w="607" h="212">
                <a:moveTo>
                  <a:pt x="0" y="212"/>
                </a:moveTo>
                <a:cubicBezTo>
                  <a:pt x="106" y="108"/>
                  <a:pt x="213" y="4"/>
                  <a:pt x="314" y="2"/>
                </a:cubicBezTo>
                <a:cubicBezTo>
                  <a:pt x="415" y="0"/>
                  <a:pt x="557" y="166"/>
                  <a:pt x="607" y="201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87600" y="4716360"/>
            <a:ext cx="0" cy="300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5010120"/>
            <a:ext cx="289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73480" y="5067360"/>
            <a:ext cx="218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6320" y="5124600"/>
            <a:ext cx="13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39880" y="3916440"/>
            <a:ext cx="37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4840" y="4535640"/>
            <a:ext cx="3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84920" y="2824200"/>
            <a:ext cx="1342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989600" y="2608200"/>
            <a:ext cx="207720" cy="176400"/>
            <a:chOff x="4989600" y="2608200"/>
            <a:chExt cx="207720" cy="176400"/>
          </a:xfrm>
        </p:grpSpPr>
        <p:sp>
          <p:nvSpPr>
            <p:cNvPr id="121" name=""/>
            <p:cNvSpPr/>
            <p:nvPr/>
          </p:nvSpPr>
          <p:spPr>
            <a:xfrm>
              <a:off x="4989600" y="2784600"/>
              <a:ext cx="118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1084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2720" y="2608200"/>
              <a:ext cx="84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19732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99120" y="2608200"/>
            <a:ext cx="285840" cy="173160"/>
            <a:chOff x="5199120" y="2608200"/>
            <a:chExt cx="285840" cy="173160"/>
          </a:xfrm>
        </p:grpSpPr>
        <p:sp>
          <p:nvSpPr>
            <p:cNvPr id="126" name=""/>
            <p:cNvSpPr/>
            <p:nvPr/>
          </p:nvSpPr>
          <p:spPr>
            <a:xfrm>
              <a:off x="5199120" y="2781360"/>
              <a:ext cx="16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36292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68680" y="2608200"/>
              <a:ext cx="116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48496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981600" y="1936800"/>
            <a:ext cx="11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DS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494320" y="2608200"/>
            <a:ext cx="206280" cy="176400"/>
            <a:chOff x="5494320" y="2608200"/>
            <a:chExt cx="206280" cy="176400"/>
          </a:xfrm>
        </p:grpSpPr>
        <p:sp>
          <p:nvSpPr>
            <p:cNvPr id="132" name=""/>
            <p:cNvSpPr/>
            <p:nvPr/>
          </p:nvSpPr>
          <p:spPr>
            <a:xfrm>
              <a:off x="5494320" y="2784600"/>
              <a:ext cx="118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6124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16720" y="2608200"/>
              <a:ext cx="8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7006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703840" y="2608200"/>
            <a:ext cx="285840" cy="173160"/>
            <a:chOff x="5703840" y="2608200"/>
            <a:chExt cx="285840" cy="173160"/>
          </a:xfrm>
        </p:grpSpPr>
        <p:sp>
          <p:nvSpPr>
            <p:cNvPr id="137" name=""/>
            <p:cNvSpPr/>
            <p:nvPr/>
          </p:nvSpPr>
          <p:spPr>
            <a:xfrm>
              <a:off x="5703840" y="2781360"/>
              <a:ext cx="16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3400" y="2608200"/>
              <a:ext cx="116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98968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87680" y="2930400"/>
            <a:ext cx="100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99520" y="2830680"/>
            <a:ext cx="0" cy="909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83040" y="3332160"/>
            <a:ext cx="54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38760" y="30654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4280" y="4398840"/>
            <a:ext cx="631800" cy="45576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2720" y="4389480"/>
            <a:ext cx="615960" cy="50004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4798440" y="2155680"/>
            <a:ext cx="679320" cy="44784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6760" y="570384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8200" y="570708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04920" y="482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00520" y="4821120"/>
            <a:ext cx="72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33800" y="1833480"/>
            <a:ext cx="11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-bit 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138800" y="28274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676400" y="3763800"/>
            <a:ext cx="281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76760" y="3763800"/>
            <a:ext cx="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41840" y="4313160"/>
            <a:ext cx="11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81BA-04F4-4A2B-8B66-0EFA6C216A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95360" y="0"/>
            <a:ext cx="89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iginal Topology -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360" y="1244520"/>
            <a:ext cx="89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al use of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,C tolerance not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or DC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a 3.3V solution, good linearity only between 0V and 1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ution not yet characterised over process/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ces in gain and offset (not only between 2 different devices, but also between 2 channels within the same device) – which means the output of the ADC is not offset/gain compensated. That can be done with additional external circuitry and internal log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C926-44E9-41A0-94C5-D92B274460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95360" y="0"/>
            <a:ext cx="89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iginal Topology – 3-channel board D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0600" y="1084320"/>
          <a:ext cx="228276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1084320"/>
                    <a:ext cx="22827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2714760" y="1003320"/>
          <a:ext cx="6986520" cy="477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760" y="1003320"/>
                    <a:ext cx="698652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0A8A-256F-40BF-BB6A-5AB08E5BF2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95360" y="0"/>
            <a:ext cx="89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riginal Topology – Results for subrange 0V-1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754360" y="1050840"/>
          <a:ext cx="700560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4360" y="1050840"/>
                    <a:ext cx="700560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39680" y="1143000"/>
          <a:ext cx="2643120" cy="450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680" y="1143000"/>
                    <a:ext cx="26431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4EA8-1D36-4359-AD55-EA214E155B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-36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Sigma Delta Modulator – New Top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3720" y="1979640"/>
            <a:ext cx="0" cy="40244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4224960" y="2466000"/>
            <a:ext cx="809640" cy="71568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1720" y="2320920"/>
            <a:ext cx="542880" cy="204840"/>
          </a:xfrm>
          <a:custGeom>
            <a:avLst/>
            <a:gdLst/>
            <a:ahLst/>
            <a:rect l="l" t="t" r="r" b="b"/>
            <a:pathLst>
              <a:path w="1263" h="203">
                <a:moveTo>
                  <a:pt x="0" y="203"/>
                </a:moveTo>
                <a:cubicBezTo>
                  <a:pt x="150" y="104"/>
                  <a:pt x="300" y="6"/>
                  <a:pt x="440" y="4"/>
                </a:cubicBezTo>
                <a:cubicBezTo>
                  <a:pt x="580" y="2"/>
                  <a:pt x="712" y="184"/>
                  <a:pt x="838" y="188"/>
                </a:cubicBezTo>
                <a:cubicBezTo>
                  <a:pt x="964" y="192"/>
                  <a:pt x="1135" y="62"/>
                  <a:pt x="1199" y="31"/>
                </a:cubicBezTo>
                <a:cubicBezTo>
                  <a:pt x="1263" y="0"/>
                  <a:pt x="1221" y="8"/>
                  <a:pt x="1225" y="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219560" y="24717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2781360"/>
            <a:ext cx="37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045880" y="2666880"/>
            <a:ext cx="221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760" y="2635200"/>
            <a:ext cx="119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267000" y="2976480"/>
            <a:ext cx="998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87600" y="2664000"/>
            <a:ext cx="0" cy="1955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38880" y="2585880"/>
            <a:ext cx="790560" cy="895680"/>
          </a:xfrm>
          <a:prstGeom prst="rect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53280" y="3220920"/>
            <a:ext cx="190440" cy="88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353280" y="3317400"/>
            <a:ext cx="190440" cy="88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94600" y="26384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97520" y="2638440"/>
            <a:ext cx="41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84040" y="4332240"/>
            <a:ext cx="1700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898720" y="4208400"/>
            <a:ext cx="856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787120" y="4208400"/>
            <a:ext cx="111240" cy="25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688840" y="4332240"/>
            <a:ext cx="874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487600" y="4332240"/>
            <a:ext cx="201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28480" y="4619520"/>
            <a:ext cx="30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32080" y="4708440"/>
            <a:ext cx="297000" cy="42840"/>
          </a:xfrm>
          <a:custGeom>
            <a:avLst/>
            <a:gdLst/>
            <a:ahLst/>
            <a:rect l="l" t="t" r="r" b="b"/>
            <a:pathLst>
              <a:path w="607" h="212">
                <a:moveTo>
                  <a:pt x="0" y="212"/>
                </a:moveTo>
                <a:cubicBezTo>
                  <a:pt x="106" y="108"/>
                  <a:pt x="213" y="4"/>
                  <a:pt x="314" y="2"/>
                </a:cubicBezTo>
                <a:cubicBezTo>
                  <a:pt x="415" y="0"/>
                  <a:pt x="557" y="166"/>
                  <a:pt x="607" y="201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87600" y="4716360"/>
            <a:ext cx="0" cy="300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5010120"/>
            <a:ext cx="289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73480" y="5067360"/>
            <a:ext cx="218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6320" y="5124600"/>
            <a:ext cx="133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39880" y="3916440"/>
            <a:ext cx="37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04840" y="4535640"/>
            <a:ext cx="3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984920" y="2824200"/>
            <a:ext cx="1342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989600" y="2608200"/>
            <a:ext cx="207720" cy="176400"/>
            <a:chOff x="4989600" y="2608200"/>
            <a:chExt cx="207720" cy="176400"/>
          </a:xfrm>
        </p:grpSpPr>
        <p:sp>
          <p:nvSpPr>
            <p:cNvPr id="199" name=""/>
            <p:cNvSpPr/>
            <p:nvPr/>
          </p:nvSpPr>
          <p:spPr>
            <a:xfrm>
              <a:off x="4989600" y="2784600"/>
              <a:ext cx="118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1084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12720" y="2608200"/>
              <a:ext cx="84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19732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199120" y="2608200"/>
            <a:ext cx="285840" cy="173160"/>
            <a:chOff x="5199120" y="2608200"/>
            <a:chExt cx="285840" cy="173160"/>
          </a:xfrm>
        </p:grpSpPr>
        <p:sp>
          <p:nvSpPr>
            <p:cNvPr id="204" name=""/>
            <p:cNvSpPr/>
            <p:nvPr/>
          </p:nvSpPr>
          <p:spPr>
            <a:xfrm>
              <a:off x="5199120" y="2781360"/>
              <a:ext cx="16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36292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8680" y="2608200"/>
              <a:ext cx="116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8496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981600" y="1936800"/>
            <a:ext cx="110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DS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494320" y="2608200"/>
            <a:ext cx="206280" cy="176400"/>
            <a:chOff x="5494320" y="2608200"/>
            <a:chExt cx="206280" cy="176400"/>
          </a:xfrm>
        </p:grpSpPr>
        <p:sp>
          <p:nvSpPr>
            <p:cNvPr id="210" name=""/>
            <p:cNvSpPr/>
            <p:nvPr/>
          </p:nvSpPr>
          <p:spPr>
            <a:xfrm>
              <a:off x="5494320" y="2784600"/>
              <a:ext cx="118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6124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16720" y="2608200"/>
              <a:ext cx="8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00600" y="2614320"/>
              <a:ext cx="0" cy="1695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03840" y="2608200"/>
            <a:ext cx="285840" cy="173160"/>
            <a:chOff x="5703840" y="2608200"/>
            <a:chExt cx="285840" cy="173160"/>
          </a:xfrm>
        </p:grpSpPr>
        <p:sp>
          <p:nvSpPr>
            <p:cNvPr id="215" name=""/>
            <p:cNvSpPr/>
            <p:nvPr/>
          </p:nvSpPr>
          <p:spPr>
            <a:xfrm>
              <a:off x="5703840" y="2781360"/>
              <a:ext cx="163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86764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73400" y="2608200"/>
              <a:ext cx="116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989680" y="2614680"/>
              <a:ext cx="0" cy="1663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76520" y="2827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99520" y="2830680"/>
            <a:ext cx="0" cy="1500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5783040" y="3332160"/>
            <a:ext cx="54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38760" y="30654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4280" y="4398840"/>
            <a:ext cx="631800" cy="45576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2720" y="4389480"/>
            <a:ext cx="615960" cy="50004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798440" y="2155680"/>
            <a:ext cx="679320" cy="447840"/>
          </a:xfrm>
          <a:custGeom>
            <a:avLst/>
            <a:gdLst/>
            <a:ahLst/>
            <a:rect l="l" t="t" r="r" b="b"/>
            <a:pathLst>
              <a:path w="756" h="660">
                <a:moveTo>
                  <a:pt x="0" y="660"/>
                </a:moveTo>
                <a:cubicBezTo>
                  <a:pt x="63" y="505"/>
                  <a:pt x="126" y="350"/>
                  <a:pt x="252" y="240"/>
                </a:cubicBezTo>
                <a:cubicBezTo>
                  <a:pt x="378" y="130"/>
                  <a:pt x="567" y="65"/>
                  <a:pt x="7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36760" y="570384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48200" y="570708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04920" y="482112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00520" y="4821120"/>
            <a:ext cx="72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33800" y="1833480"/>
            <a:ext cx="11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-bit 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7138800" y="28274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51600" y="4330800"/>
            <a:ext cx="23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28880" y="4417920"/>
            <a:ext cx="110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rot="16200000">
            <a:off x="4826160" y="4155840"/>
            <a:ext cx="300240" cy="344520"/>
          </a:xfrm>
          <a:prstGeom prst="triangle">
            <a:avLst>
              <a:gd name="adj" fmla="val 50000"/>
            </a:avLst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1680" y="4282920"/>
            <a:ext cx="889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1949400" y="2541600"/>
            <a:ext cx="856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837800" y="2541600"/>
            <a:ext cx="111240" cy="252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739520" y="2665440"/>
            <a:ext cx="87480" cy="123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306440" y="2665440"/>
            <a:ext cx="4334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49600" y="2306520"/>
            <a:ext cx="37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497720" y="4873680"/>
          <a:ext cx="1495440" cy="9097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f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0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n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4852440" y="5823000"/>
            <a:ext cx="439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 Vref can be obtained by a resistor divider from VCCIO (3.3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51EB-56C0-4920-8814-2AD11CBC1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95360" y="0"/>
            <a:ext cx="89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w Topology -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360" y="1244520"/>
            <a:ext cx="891216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linearity across the whole range (0V to 3.3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ter DC/AC performance than the original topology for the same input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the generation of a Vref on the board (the same Vref can/should be applied to all channels on the same 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the input signal source the ability to drive/draw current (typically &lt; 1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ution not yet characterised over process/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ces in gain and offset (not only between 2 different devices, but also between 2 channels within the same device) – which means the output of the ADC is not offset/gain compensated. That can be done with additional external circuitry and internal log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2CED-446B-40D5-ACE8-24720ED7B6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95360" y="0"/>
            <a:ext cx="89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ew Topology - 3-channel board D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678040" y="1003320"/>
          <a:ext cx="7081920" cy="47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8040" y="1003320"/>
                    <a:ext cx="70819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79440" y="1093680"/>
          <a:ext cx="2243160" cy="462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40" y="1093680"/>
                    <a:ext cx="22431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12D3-DDD3-4A44-8E4C-A1E9C87D40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1T10:01:50Z</dcterms:created>
  <dc:creator>Altera Corporation</dc:creator>
  <dc:description/>
  <dc:language>en-US</dc:language>
  <cp:lastModifiedBy>ETC</cp:lastModifiedBy>
  <cp:lastPrinted>1999-09-03T12:57:18Z</cp:lastPrinted>
  <dcterms:modified xsi:type="dcterms:W3CDTF">2004-01-08T15:28:22Z</dcterms:modified>
  <cp:revision>102</cp:revision>
  <dc:subject/>
  <dc:title>Altera PC template for overheads</dc:title>
</cp:coreProperties>
</file>